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A1F-5CD4-45D9-B79F-ED434FAF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C73-8930-45C0-93BE-B89A96AE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DFD-1E32-40A7-BFB9-D4FF8909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CF5-4784-4D17-8B43-8CA41F2D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E2A-27C5-418D-9B7E-8B2F8B58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D8A-27CC-4EDB-842A-B4C6D307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185-62BA-4726-B4AA-51E09EC2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46E-10D9-4AC9-8B1C-2DF1D50B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DFB-D754-44A5-8C9F-34EDE3FD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2BC-880B-4F95-8F6A-ABDA6B39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54A-4226-4853-BDB4-E479F577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6E0-D2B8-400B-A58D-32E0CCD6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79C2E-883F-4F9E-81C1-F7C00C8EA9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DDC34-CD55-48B2-BFC8-115A1992A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66860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8"/>
          <p:cNvSpPr/>
          <p:nvPr/>
        </p:nvSpPr>
        <p:spPr>
          <a:xfrm>
            <a:off x="3772080" y="26668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2"/>
          <a:stretch/>
        </p:blipFill>
        <p:spPr>
          <a:xfrm>
            <a:off x="6705720" y="91440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"/>
          <p:cNvPicPr/>
          <p:nvPr/>
        </p:nvPicPr>
        <p:blipFill>
          <a:blip r:embed="rId3"/>
          <a:stretch/>
        </p:blipFill>
        <p:spPr>
          <a:xfrm>
            <a:off x="3733920" y="457200"/>
            <a:ext cx="24159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"/>
          <p:cNvPicPr/>
          <p:nvPr/>
        </p:nvPicPr>
        <p:blipFill>
          <a:blip r:embed="rId4"/>
          <a:stretch/>
        </p:blipFill>
        <p:spPr>
          <a:xfrm>
            <a:off x="609480" y="685800"/>
            <a:ext cx="2332080" cy="1866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"/>
          <p:cNvPicPr/>
          <p:nvPr/>
        </p:nvPicPr>
        <p:blipFill>
          <a:blip r:embed="rId5"/>
          <a:stretch/>
        </p:blipFill>
        <p:spPr>
          <a:xfrm>
            <a:off x="533520" y="3429000"/>
            <a:ext cx="2257200" cy="279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"/>
          <p:cNvPicPr/>
          <p:nvPr/>
        </p:nvPicPr>
        <p:blipFill>
          <a:blip r:embed="rId6"/>
          <a:stretch/>
        </p:blipFill>
        <p:spPr>
          <a:xfrm>
            <a:off x="3809880" y="4038480"/>
            <a:ext cx="19684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822320" cy="1609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857760" y="6858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7467480" y="762120"/>
            <a:ext cx="1016280" cy="123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4"/>
          <a:stretch/>
        </p:blipFill>
        <p:spPr>
          <a:xfrm>
            <a:off x="380880" y="3429000"/>
            <a:ext cx="2444760" cy="234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5"/>
          <a:stretch/>
        </p:blipFill>
        <p:spPr>
          <a:xfrm>
            <a:off x="4038480" y="411480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6"/>
          <a:stretch/>
        </p:blipFill>
        <p:spPr>
          <a:xfrm>
            <a:off x="7391520" y="4038480"/>
            <a:ext cx="134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066680" y="507960"/>
            <a:ext cx="1765440" cy="185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3591000" y="457200"/>
            <a:ext cx="1962000" cy="196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2286000" cy="141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1765080" cy="1905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371600" y="2819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m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809880" y="2590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an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572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 cad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77208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telev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6629400" y="91440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6858000" y="4038480"/>
            <a:ext cx="17017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4:52:25Z</dcterms:created>
  <dc:creator>Silvia Ferreira</dc:creator>
  <dc:description/>
  <dc:language>en-US</dc:language>
  <cp:lastModifiedBy>Eduardo da Silva</cp:lastModifiedBy>
  <dcterms:modified xsi:type="dcterms:W3CDTF">2012-09-19T17:47:42Z</dcterms:modified>
  <cp:revision>3</cp:revision>
  <dc:subject/>
  <dc:title>Slide 1</dc:title>
</cp:coreProperties>
</file>